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E464-C767-48F9-B661-80121F57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77B8-E907-4469-9129-30A14168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090E-6B9E-492D-8488-24F298FD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D3D2-D87C-431A-AA35-C3BA6516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2B38-8DD7-49B5-8F79-FA33B77C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AD43-6DF2-40CB-AA9A-A3064A8B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B1CF-A41E-4F30-8949-886F2DD6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A62A-BEB0-4837-BA5F-87324865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091E-1DCF-4706-A34A-004F798A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B387-EE00-4AA6-924E-6F9498DA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7DDE-90EF-4C7B-AA23-AE7F99B4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3CC3-BC43-48E2-B395-44E2484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3379-830A-41A8-B8F1-A7FA302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F279-465C-4F54-9612-7744E380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0935-DE11-40D3-96F1-081A29C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F6E6-C2D8-4281-BF1A-7A2BD962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8B0-0C81-4CF2-853A-30FAF475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FDFA-F45E-4577-8E38-9636A9FA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7285-2D32-485F-B83F-C2E29E81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B71B-4D39-4A83-B2F5-BE7797C2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BBAE-5ECC-49F9-A0FC-A23A57DE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266F-65B4-4D1D-89E8-49D65E2D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5DC9-78B0-4FA2-AA1F-2325A171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D0C7-7AA5-4FD8-AFF7-4ABFACA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30F-486A-43F6-AA80-C5A3220E407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04F-6EF5-4CCE-9F93-CCECAF7A942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39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37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Бог да бъде с вас, довиждан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ас да е благодатта Му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ирът, и любовта Му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да бъде с вас, довиждан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252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, Господ с в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 от тоз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, Господ с в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да бъде с вас, довиждан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70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Бог да бъде с вас, довиждан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лукавий да ви бра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небесна манна хра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да бъде с вас, довиждан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252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, Господ с в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 от тоз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, Господ с в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да бъде с вас, довиждан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12360"/>
            <a:ext cx="95774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Бог да бъде с вас, довиждане! Свои чада да ви счи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особена защи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да бъде с вас, довиждан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252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, Господ с в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 от тоз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, Господ с в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да бъде с вас, довиждан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512360"/>
            <a:ext cx="95774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Бог да бъде с вас, довиждан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да бъде ваш Учит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ътник, Вожд и Покровите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да бъде с вас, довиждан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44252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, Господ с в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 от тоз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 вас, Господ с в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да бъде с вас, довиждан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0T16:47:45Z</dcterms:modified>
  <cp:revision>231</cp:revision>
  <dc:subject/>
  <dc:title>Slide 1</dc:title>
</cp:coreProperties>
</file>